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FB8A1-51E0-4986-A08B-26BB278F3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446F5-D032-4D1A-A77F-4B6129836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C70-EFC0-4B55-A7FF-90750B9F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22B-674B-4BBE-9872-24C12F9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3C0-6E74-40D7-989C-9A532E5E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0DF-A936-4540-9606-85B8F73C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ED9-ECB0-4C0C-9EEC-F7C53484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299-C4E5-4983-AF37-B0AB724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40E0-F67F-44DF-8284-4D128A84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5039-961D-4669-9F34-45ACA840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E8B-C8DD-4D30-914D-FBFC9EC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FEA4-99BB-4A8B-9304-626DD809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FE1-CC79-49C0-9F60-213EE5B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B5A-1683-4DA1-B7A2-F6F2B99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50FA-78BC-484A-8A3B-8BF2A25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AB1-657F-4E48-92B1-C11F117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41F-2F44-48CC-B3B2-169CD9F5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2FAB-FCED-462D-828F-7A2B87F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91C1-D8A3-497B-B6C3-E0FFF2CE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37F2-2238-4EFF-9967-5000CDF0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2527-C0F0-4EF8-AF91-21B1EF7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15BF-BA9F-46F5-A8CC-C773011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69AB-787B-4D61-8CD3-634AF17E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D31E-A5EC-4A07-922E-FAE1C02E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592-A649-45F1-9DB0-5C0D22B3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92B8-8503-4DBF-AF87-71EE0A20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78BA-5B67-402C-BD62-0F4801E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AF27-E655-4A8F-933B-2CDF524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6107-F3BD-4231-9C3E-B95742F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B65C-57C7-44F5-B81B-921EA0D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EE3A-8138-44D1-8166-B14B8B97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E3C8-7CD1-4232-81F4-B350E576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C0D6-EB48-4DDF-84B9-95D1A23B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DBE7-D336-4518-9084-59EB723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C143-3D96-42D2-B424-3EC2F4C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160-BDE1-421C-86BB-E922B853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C008-C632-4662-9F9A-7171310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16E4-BCC4-4C19-A0CC-5A230831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55B4-7C67-48F6-BBF6-0BF35F0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C16F-C7C7-4639-9BA6-907E468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985E-8A1C-4D2E-8434-66B4F3FC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68FB-0898-4B5B-8625-BA0348A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A7FB-2BE8-46E0-9253-322DD9B7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7ED4-67E7-4645-9C75-641764AD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4F16-AC92-43D4-881F-60A18D41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E69D-0F25-446C-960D-6FA13DF3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30B-7B4A-4C8E-9263-AEBD7E8E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9829-D59F-4FF3-9B99-3F62AE6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C47E-D0B7-4601-8B4B-E9BEAF7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19500-B5DA-4B1C-AE2A-993CD2C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F93B-2EBA-4C72-A7AD-F4537559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BB3F-3FBD-4AB2-8BD7-4A7C9F5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E8FB-82F7-463D-9E18-AC64DD3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25F7-CC3B-4C77-996F-1FFAC04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8A2C-258E-4D95-9F96-23793AC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A900-B212-48A0-ADE6-FF90C69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930D-574C-47E3-9135-F4BBB13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B23-358C-45D7-87DD-D35498C5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A4B4-7D07-42A9-9E4C-F00B6FA6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D9E5-D82A-4A22-B14F-AFC0E61A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E1B1-1C4A-4293-8BF0-FC94E22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129C-EFDF-4069-85EC-D6AB3853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48A0-AAB5-4F4A-A2CB-8F0D17B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ACB8-7A74-43AE-8CE7-A4E1402D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275F-DA92-4B6A-88F7-B76D7A2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A334-94DA-4F6B-AB45-F08B4BE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0D4C-3908-4EF7-A157-8E7C278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A1A3-20CA-4697-88C7-009CD54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E7B-8F13-4829-A018-F827046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BA8B-55E3-4FA3-BF1A-6E53895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B82F-3CCD-4424-A1B3-90CEB389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29AB-2F3C-4C5A-AE8A-D8C10062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F2DD-4229-4217-9D09-6F72AC8C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9C39-D9C0-42D4-A30D-745EF1B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1ADAB-8E7A-4C80-ADC6-F68564F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0D5E-CEAE-48D3-87FE-E08DCA7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0188-223C-4CAD-AE33-EEC7106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12FE-A654-40F5-AB52-FDF66D39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0584-EC4E-4BB0-BD47-852F213D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E01-F116-4D1E-9158-85673D7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1458-52F9-45A9-841E-98F5B4E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28D8-022B-46AB-9685-59CEA8A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CB618-F404-4111-BEA8-4B7F24A2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0F91-6C3B-4BFA-8C0C-D0A85D7A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83EE-5CA3-4912-AAA9-55BC7026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6E30F-311D-4E3A-9AD2-D78DF6A1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47AA-12AE-428C-8B66-BA7EE685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4787F-454B-495D-8096-3533E960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73E13-CBB4-4D71-B559-2BEE8D26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9A93-18E9-42DB-8213-6E50CB4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78C-21F0-488D-80B6-E99EC97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B934-D903-492E-8E02-1700391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7F7EA-170F-4F92-8E77-667F4A0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4447-B102-40C7-A28A-AC727EF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6051-24B2-4CFE-AC3B-395A649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2F60-CB36-46ED-A419-577009C0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09EF-C80A-44F0-A835-752FD271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CD62-B746-4146-B7C9-89FC6645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8250D-557C-49E7-9B95-4BB0FFB7692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verlayTitl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10537-8195-490F-80B9-1A3638ABF89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366A3-BAE1-4AC1-AFD6-7079E031E61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6F4C4-742D-4C5D-9F08-D840777FFB2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ECCE5-3324-4551-AD43-919E67B2CDD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CE84F-7936-4700-91D2-DDCFBFE6644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5EA52-C36D-499F-B269-A3D40CB7CF0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overlayVertica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B8D40-5349-4891-A653-D88F45DB06C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1596960"/>
            <a:ext cx="758340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Module 2</a:t>
            </a:r>
            <a:endParaRPr b="1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79040" y="32767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it Tick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0880" y="5797440"/>
            <a:ext cx="85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ureka Math is licensed by Great Minds under an Attribution-NonCommercial-ShareAlike 4.0 International licens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problem. Show that the placement of the decimal is correct through either estimation or fraction calcula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3" descr="Screen Shot 2016-06-21 at 2.21.38 PM.png"/>
          <p:cNvPicPr/>
          <p:nvPr/>
        </p:nvPicPr>
        <p:blipFill>
          <a:blip r:embed="rId1"/>
          <a:stretch/>
        </p:blipFill>
        <p:spPr>
          <a:xfrm>
            <a:off x="2381400" y="3006720"/>
            <a:ext cx="400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0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te the problem using partial produ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3" descr="Screen Shot 2016-06-21 at 2.23.08 PM.png"/>
          <p:cNvPicPr/>
          <p:nvPr/>
        </p:nvPicPr>
        <p:blipFill>
          <a:blip r:embed="rId1"/>
          <a:stretch/>
        </p:blipFill>
        <p:spPr>
          <a:xfrm>
            <a:off x="2946240" y="2840040"/>
            <a:ext cx="2325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stimation or fraction multiplication to determine if your answer is reasonabl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Calculate the product. 78.93 × 32.4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Paint costs $29.95 per gallon. Nikki needs 12.25 gallons to complete a painting project. How much will Nikki spend on paint? Remember to round to the nearest penn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nd to estimate the quotient. Then, compute the quotient using a calculator, and compare the estimation to the quotien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4,732 ÷ 13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22,752 ÷ 16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vide using the division algorithm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92,196 ÷ 87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imate quotients. Convert decimal division expressions to fractional division expressions to create whole number divisors. Compute the quotient using the division algorithm. Check your work with a calculator and your estimat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Lisa purchased almonds for $3.50 per pound. She spent a total of $24.50. How many pounds of almonds did she purchas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Divide: 125.01÷5.4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aluate the expression using mental math techniques and the division algorithm. Explain your reasoning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8.75 ÷ 2.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termine whether each sum or product is even or odd. Explain your reasoning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6,426 + 17,895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17,362 × 129,324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,481 + 4,569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2,457 × 12,781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ow or explain why 12+13+14+15+16 results in an even sum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7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Is 26,341 divisible by 3? If it is divisible, write the number as the product of 3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Is 8,397 divisible by 9? If it is divisible, write the number as the product of 9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Explain why 186,426 is divisible by both 3 and 9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2320" y="969480"/>
            <a:ext cx="7974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nd the LCM and GCF of 12 and 15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8, whose GCF is 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28, whose LCM is 2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te each of the stations you visited today. Use this sc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—Easy—I’ve got it; I don’t need any help. 2—Medium—I need more practice, but I understand some of it.            1—Hard—I’m not getting this y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lete the following chart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8" name="Picture 3" descr="Screen Shot 2016-06-21 at 2.32.28 PM.png"/>
          <p:cNvPicPr/>
          <p:nvPr/>
        </p:nvPicPr>
        <p:blipFill>
          <a:blip r:embed="rId1"/>
          <a:stretch/>
        </p:blipFill>
        <p:spPr>
          <a:xfrm>
            <a:off x="779400" y="4254480"/>
            <a:ext cx="7513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n equivalent multiplication expression. Then, find the quotient in its simplest form. Use a model to support your respon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3" descr="Screen Shot 2016-06-21 at 1.54.32 PM.png"/>
          <p:cNvPicPr/>
          <p:nvPr/>
        </p:nvPicPr>
        <p:blipFill>
          <a:blip r:embed="rId1"/>
          <a:stretch/>
        </p:blipFill>
        <p:spPr>
          <a:xfrm>
            <a:off x="1957320" y="3156120"/>
            <a:ext cx="936720" cy="884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creen Shot 2016-06-21 at 1.54.42 PM.png"/>
          <p:cNvPicPr/>
          <p:nvPr/>
        </p:nvPicPr>
        <p:blipFill>
          <a:blip r:embed="rId2"/>
          <a:stretch/>
        </p:blipFill>
        <p:spPr>
          <a:xfrm>
            <a:off x="1957320" y="4570560"/>
            <a:ext cx="936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uclid’s algorithm to find the greatest common factor of 45 and 75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division problem using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Henry bought 4 pies, which he plans to share with a group of his friends. If there is exactly enough to give each member of the group one-sixth of the pie, how many people are in the group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achel finished       of the race in 6 hours. How long was the entire rac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3" descr="Screen Shot 2016-06-21 at 1.57.22 PM.png"/>
          <p:cNvPicPr/>
          <p:nvPr/>
        </p:nvPicPr>
        <p:blipFill>
          <a:blip r:embed="rId1"/>
          <a:stretch/>
        </p:blipFill>
        <p:spPr>
          <a:xfrm>
            <a:off x="4186080" y="4624560"/>
            <a:ext cx="304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d the quotient. Draw a model to support your solu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3" descr="Screen Shot 2016-06-21 at 1.58.38 PM.png"/>
          <p:cNvPicPr/>
          <p:nvPr/>
        </p:nvPicPr>
        <p:blipFill>
          <a:blip r:embed="rId1"/>
          <a:stretch/>
        </p:blipFill>
        <p:spPr>
          <a:xfrm>
            <a:off x="1816200" y="241452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Screen Shot 2016-06-21 at 1.58.49 PM.png"/>
          <p:cNvPicPr/>
          <p:nvPr/>
        </p:nvPicPr>
        <p:blipFill>
          <a:blip r:embed="rId2"/>
          <a:stretch/>
        </p:blipFill>
        <p:spPr>
          <a:xfrm>
            <a:off x="1816200" y="3692520"/>
            <a:ext cx="1133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each quotient. If needed, draw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Screen Shot 2016-06-21 at 2.02.41 PM.png"/>
          <p:cNvPicPr/>
          <p:nvPr/>
        </p:nvPicPr>
        <p:blipFill>
          <a:blip r:embed="rId1"/>
          <a:stretch/>
        </p:blipFill>
        <p:spPr>
          <a:xfrm>
            <a:off x="2127240" y="2467080"/>
            <a:ext cx="851040" cy="803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creen Shot 2016-06-21 at 2.02.48 PM.png"/>
          <p:cNvPicPr/>
          <p:nvPr/>
        </p:nvPicPr>
        <p:blipFill>
          <a:blip r:embed="rId2"/>
          <a:stretch/>
        </p:blipFill>
        <p:spPr>
          <a:xfrm>
            <a:off x="2116080" y="3832200"/>
            <a:ext cx="862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55800" y="1231560"/>
            <a:ext cx="723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measurement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3" descr="Screen Shot 2016-06-21 at 2.04.37 PM.png"/>
          <p:cNvPicPr/>
          <p:nvPr/>
        </p:nvPicPr>
        <p:blipFill>
          <a:blip r:embed="rId1"/>
          <a:stretch/>
        </p:blipFill>
        <p:spPr>
          <a:xfrm>
            <a:off x="3762360" y="2496960"/>
            <a:ext cx="1451160" cy="890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Screen Shot 2016-06-22 at 3.20.48 PM.png"/>
          <p:cNvPicPr/>
          <p:nvPr/>
        </p:nvPicPr>
        <p:blipFill>
          <a:blip r:embed="rId2"/>
          <a:stretch/>
        </p:blipFill>
        <p:spPr>
          <a:xfrm>
            <a:off x="1373040" y="3535200"/>
            <a:ext cx="6419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partitive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3" descr="Screen Shot 2016-06-21 at 2.10.12 PM.png"/>
          <p:cNvPicPr/>
          <p:nvPr/>
        </p:nvPicPr>
        <p:blipFill>
          <a:blip r:embed="rId1"/>
          <a:stretch/>
        </p:blipFill>
        <p:spPr>
          <a:xfrm>
            <a:off x="1428840" y="2406600"/>
            <a:ext cx="1517400" cy="9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Screen Shot 2016-06-21 at 2.10.24 PM.png"/>
          <p:cNvPicPr/>
          <p:nvPr/>
        </p:nvPicPr>
        <p:blipFill>
          <a:blip r:embed="rId2"/>
          <a:stretch/>
        </p:blipFill>
        <p:spPr>
          <a:xfrm>
            <a:off x="274680" y="3894120"/>
            <a:ext cx="8165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7 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00" y="1076400"/>
            <a:ext cx="83962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Write the reciprocal of the following number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ewrite this division expression as an equivalent multiplication expression: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Solve Problem 2. Draw a model to support your solution.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Screen Shot 2016-06-21 at 2.15.10 PM.png"/>
          <p:cNvPicPr/>
          <p:nvPr/>
        </p:nvPicPr>
        <p:blipFill>
          <a:blip r:embed="rId1"/>
          <a:stretch/>
        </p:blipFill>
        <p:spPr>
          <a:xfrm>
            <a:off x="4397400" y="3903840"/>
            <a:ext cx="985680" cy="968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creen Shot 2016-06-21 at 2.16.02 PM.png"/>
          <p:cNvPicPr/>
          <p:nvPr/>
        </p:nvPicPr>
        <p:blipFill>
          <a:blip r:embed="rId2"/>
          <a:stretch/>
        </p:blipFill>
        <p:spPr>
          <a:xfrm>
            <a:off x="779400" y="1436760"/>
            <a:ext cx="7302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55800" y="1076040"/>
            <a:ext cx="72324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the quoti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3" descr="Screen Shot 2016-06-21 at 2.18.51 PM.png"/>
          <p:cNvPicPr/>
          <p:nvPr/>
        </p:nvPicPr>
        <p:blipFill>
          <a:blip r:embed="rId1"/>
          <a:stretch/>
        </p:blipFill>
        <p:spPr>
          <a:xfrm>
            <a:off x="1514520" y="1643040"/>
            <a:ext cx="14842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20:48:13Z</dcterms:created>
  <dc:creator>user</dc:creator>
  <dc:description/>
  <dc:language>en-US</dc:language>
  <cp:lastModifiedBy>bethel</cp:lastModifiedBy>
  <dcterms:modified xsi:type="dcterms:W3CDTF">2016-06-29T15:57:25Z</dcterms:modified>
  <cp:revision>27</cp:revision>
  <dc:subject/>
  <dc:title>Module 2</dc:title>
</cp:coreProperties>
</file>